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FE3-404B-4806-A90E-453E1090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73E-66E3-458F-855D-24F9E02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F2A32-59CB-4F3F-881D-DBA609B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F2D1D-1891-43A0-BD8E-5AF7DD86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57107-EAB7-446D-845B-E4D7CED3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B8AB9-1DB1-44D6-A7F2-0023698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41967-5249-4B45-9500-C648E67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85163-52FC-4391-BC5B-3DA4B26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8EDF6-995A-4031-BE7E-21BA5D0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3BD3F-96E5-423E-BFD1-144F7CBB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30730-3813-479A-9EE5-9ECBC2FB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7263B-E8F7-4FAF-898C-21293750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33A-0EA5-4013-BBA6-CDE9B9FA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93185-4FDE-47C4-BBFF-A56471EC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3B457-2361-486C-A44C-0D278F4E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38A66-840A-418C-AC85-9906150A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16B24-10D7-4404-B392-7A3418B9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2233A-802D-4888-B192-98870EC6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F2063-740E-4F1E-ACFD-9078B1A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F6D35-6C40-40A1-8258-2DB7B4A2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E4FF7-9AE0-4ED8-A93C-6D71985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90B88-90EA-47D5-9B76-5899B359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79173-AB1F-46EE-AFC7-5DC5784F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411-2AD7-45A3-B464-FA02614E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EBB5B-118E-4EF7-9169-45CB438D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E5819-D67C-4423-94E0-A8BE0D02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E065F-3018-449E-A96F-310C262E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BA908-8568-49CA-8894-665CF2E2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95081-6F31-49A7-A875-9E09C86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79CA7-E2DC-44A7-9C0A-57527407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BDC33-42CC-4B79-8BD7-11DADFCD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44F9-ED7A-4EA5-9F17-FD74ED3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7671-C2BD-4E03-A04F-FD53665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94A81-3D8D-44E6-BCA1-B7160E3B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3AD5-47F6-446D-A9CD-39B20424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53584-F711-4526-A76E-C0891D66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07E88-3383-4B52-B1EF-49799E1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FEC73-E63A-49E5-AAAA-27CFB1CC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1EAF-F89E-4D9A-A6B3-5558D1AE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09A4-C229-4084-8938-8DE74E55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EBE7-EF58-4D8C-9DD1-EBDD82A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F95-82EE-4697-9D2B-B6EBBE7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EB04-E321-4B6E-BE6A-67A71D8F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D4E8-95C6-4957-9B3A-DF94C23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E9B-C8BB-4D3F-A5C6-E7FA8484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8E60-9FA5-4E45-86B1-5CEE4D0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973-501B-4443-83E6-CF3B947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376D-72C3-4455-87F0-654C9E76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52C9-6EC4-4236-A8D9-FDA1E4FB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E827-0674-4D1F-BC50-B289A4D2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4D91-634C-4938-9BF5-98C72AC7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9A14-46CA-4918-9443-6849D69D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C4B8-843B-4D76-A8CE-D12E168D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C17E-EC51-4B2C-A094-EACDDCAB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8F7B-5CAC-4128-B0C6-E1E63048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61C-FF43-48D2-A86B-20219DC0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2E4B-F746-4F99-8C89-A8B9D8DF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7F0D-BC9A-41BB-B2A9-26761A6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6D45-835B-45E0-9C32-87A291FC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3706-7563-435A-AA44-D388F6F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C3A7-F188-4641-B724-088F940B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1598-6382-4F7A-BFE4-5B9D849B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240E-C20B-4820-AB14-2FE4B318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E90D-4434-4575-A9CD-7B0623F5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D3ED-A2BA-4FA7-A5F9-BD16302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1244-FDE2-4C72-BBDA-7B29B301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E00-030D-4552-81C9-89084430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5683-DB1E-4C10-9D19-6356E12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C1C8-CEC4-4662-A1BB-EB6ABD66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B4FD-6515-4C49-BDF8-4726AB2E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7A8B-8342-49CF-8EEA-434CEA4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B07B5-70AE-439F-95CD-11F5521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CDA8-FF18-4F0E-9E4C-FF821A6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EBC2-788B-4ED5-ACB5-EA1D3E8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BCFF-7D64-46A5-8712-892C0EBD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2476-1AAE-4BD2-AACF-EDD6265F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C753D-03EF-4C1F-B182-587E0B6A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CAF-9443-4FA3-96E1-0BFC44EC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275D-7F4C-4EAD-B8F8-BD4EFDF6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697D-0B9F-4C00-836D-E5215298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9B37-D8BF-4D59-9868-697294D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9F180-F8C9-4749-A4EB-BA85D23D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D9D65-E4C4-4D6F-9B2F-20F38CBF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CBB7-7D6D-4FE4-82D3-9862A87C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3783-CAB4-4F33-8B06-18F4087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E56C-75B5-429B-926F-ADF367C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70430-3ECB-44CE-9F2E-8B7E3A15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62CBD-39D3-430A-92B2-2EB8A75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7B4-29F3-4F8F-A017-F33CA818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3173D-109D-42C7-B293-E24F15F4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0662C-9991-4605-8BB4-8F5CA3F0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EB508-7969-4DDC-8C90-E799A870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AA379-3747-41D9-8A0A-7B2B11A9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234E6-70CF-4602-BF99-46D1D5D7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D4A8-36A9-4224-9BDF-297C9F29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FE3D-B228-4851-AED3-1D3B7F1E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B08FC-9038-41F8-955D-BE7439C9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59AAA-60A4-44D7-9F7F-A66150A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89B5-E23E-4FEB-B0A7-4E802DD7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007-42A6-4995-99AB-58A72F9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6D6C-1A65-4126-A019-98888C6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FC8B-2FB8-4AAE-B910-77CB1D03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38EF-DC55-467E-9387-74D12E90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D5D6-0D46-4EDA-B18F-C9E93EF8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0793-C46A-458D-B431-C8E406F6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16575-D028-47BA-9AFE-EBBC2A4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1A781-071F-458A-8578-B75F4037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E221B-39F4-402E-8CF6-D282A10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89087-DE78-40AB-BC58-B82EEFC1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B573-28AB-4AEB-A4FD-4FE90B4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B7B-489F-4715-B563-A87362D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9B0B-6D31-406B-96C6-303EC58B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93AFC-7AEA-437F-9516-D9A817E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ABE07-6ECF-4018-9B12-A1C3451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1FC2-414A-4C8B-897A-832FF1FD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8015-CA10-4A8C-88AB-61CF26D9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B091A-101C-454D-A752-7C3681F5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C62F-6EE3-4CFE-B25E-D7D027A6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F858-7146-4650-85F7-951E46D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27AD0-B84C-42B4-A153-C5BDCC65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C28B0-6564-4DFD-9AE7-8E33C9B0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E8A-B347-4268-8679-EFA038D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A570-4C15-415B-9CC9-61926D4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8B86D-8FFB-4969-B844-0207878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7B80-205B-493F-B101-C09D95CD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AA71C-7FFB-4E11-A231-106C663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F9D4-E60A-4A3E-B5A1-3DD34DF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8B927-8C28-4834-B002-83C4BA8D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960ED-0353-46A4-B08C-7E626144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C4627-24BF-4AAF-9A86-E3A896C4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610D7-981F-4FA9-902A-D13A1A92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A7F3C-16D5-46D4-9CF2-00A8D67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75CA-4326-4186-B776-886418690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24B-FA15-4CD0-826C-E8F88F3099A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504-C80B-4BF0-A44D-602D4A9B48A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80C-5780-4A28-89F0-5F4F47172FF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5460-EEC9-4F0D-9D2A-FD022805885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D5A5-736B-4D64-9DB0-7BF290C62A4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CB1-0C03-4964-9ACD-9C6104F44B1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DAC5-3112-488E-A9BF-A90D79D3B4F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364-D9A8-424B-93C3-AE14E0BD313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F383-BB85-49D8-A2E4-33619D1310C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FA67-A1D3-44DA-88F3-8E4993BE542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lasmas.org/rot-plasmas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alatino Linotype"/>
              </a:rPr>
              <a:t>T01D02 – SL/HL Chem 1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Palatino Linotype"/>
              </a:rPr>
              <a:t>Today we go back </a:t>
            </a:r>
            <a:r>
              <a:rPr b="1" lang="en-US" sz="54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pic>
        <p:nvPicPr>
          <p:cNvPr id="483" name="Picture 1" descr=""/>
          <p:cNvPicPr/>
          <p:nvPr/>
        </p:nvPicPr>
        <p:blipFill>
          <a:blip r:embed="rId1"/>
          <a:stretch/>
        </p:blipFill>
        <p:spPr>
          <a:xfrm>
            <a:off x="1182600" y="1494000"/>
            <a:ext cx="65660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1676520" y="228600"/>
            <a:ext cx="2286000" cy="685800"/>
          </a:xfrm>
          <a:prstGeom prst="rect">
            <a:avLst/>
          </a:prstGeom>
          <a:solidFill>
            <a:srgbClr val="d26900"/>
          </a:solidFill>
          <a:ln w="9360">
            <a:solidFill>
              <a:srgbClr val="d2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Elements</a:t>
            </a:r>
            <a:r>
              <a:rPr b="0" lang="en-US" sz="4000" spc="-1" strike="noStrike">
                <a:solidFill>
                  <a:srgbClr val="303030"/>
                </a:solidFill>
                <a:latin typeface="Palatino Linotype"/>
              </a:rPr>
              <a:t> vs. Compounds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00" y="9399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Element: substance that </a:t>
            </a:r>
            <a:r>
              <a:rPr b="0" i="1" lang="en-US" sz="3200" spc="-1" strike="noStrike">
                <a:solidFill>
                  <a:srgbClr val="313b44"/>
                </a:solidFill>
                <a:latin typeface="Palatino Linotype"/>
              </a:rPr>
              <a:t>cannot</a:t>
            </a: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 be separated into simpler substances by </a:t>
            </a:r>
            <a:r>
              <a:rPr b="0" i="1" lang="en-US" sz="3200" spc="-1" strike="noStrike">
                <a:solidFill>
                  <a:srgbClr val="313b44"/>
                </a:solidFill>
                <a:latin typeface="Palatino Linotype"/>
              </a:rPr>
              <a:t>chemical</a:t>
            </a: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 means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First letter is always capitalized, second is lower case. (ie, Cobalt, Co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Most elements named using English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C (Carbon), Br (Bromine), Ne (Neon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Some named after Latin routes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313b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b44"/>
                </a:solidFill>
                <a:latin typeface="Palatino Linotype"/>
              </a:rPr>
              <a:t>Au (Aurum – Gold), Fe (Ferrum – Iron), Na (Natrium – Sodium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550" name="Object 6"/>
          <p:cNvGraphicFramePr/>
          <p:nvPr/>
        </p:nvGraphicFramePr>
        <p:xfrm>
          <a:off x="1371600" y="5486400"/>
          <a:ext cx="1585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486400"/>
                    <a:ext cx="1585800" cy="1371600"/>
                  </a:xfrm>
                  <a:prstGeom prst="rect">
                    <a:avLst/>
                  </a:prstGeom>
                  <a:ln cap="sq" w="28440">
                    <a:solidFill>
                      <a:srgbClr val="dedee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2" name="Object 8"/>
          <p:cNvGraphicFramePr/>
          <p:nvPr/>
        </p:nvGraphicFramePr>
        <p:xfrm>
          <a:off x="5334120" y="5257800"/>
          <a:ext cx="32004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257800"/>
                    <a:ext cx="3200400" cy="1428840"/>
                  </a:xfrm>
                  <a:prstGeom prst="rect">
                    <a:avLst/>
                  </a:prstGeom>
                  <a:ln cap="sq" w="28440">
                    <a:solidFill>
                      <a:srgbClr val="dedee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4724280" y="76320"/>
            <a:ext cx="3533760" cy="83808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81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Elements vs.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Palatino Linotype"/>
              </a:rPr>
              <a:t>Compounds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ompound: a substance composed of two or more elements chemically united in fixed proportions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36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O – water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NaCl – table salt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Unlike mixtures, compounds can be separated only by chemical means into their pure substances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57" name="Picture 4" descr="salt"/>
          <p:cNvPicPr/>
          <p:nvPr/>
        </p:nvPicPr>
        <p:blipFill>
          <a:blip r:embed="rId1"/>
          <a:stretch/>
        </p:blipFill>
        <p:spPr>
          <a:xfrm>
            <a:off x="7372440" y="2057400"/>
            <a:ext cx="17715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609480" y="304920"/>
            <a:ext cx="3353040" cy="609480"/>
          </a:xfrm>
          <a:prstGeom prst="rect">
            <a:avLst/>
          </a:prstGeom>
          <a:solidFill>
            <a:srgbClr val="002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-114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Palatino Linotype"/>
              </a:rPr>
              <a:t>Homogeneous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 vs. Heterogeneous </a:t>
            </a:r>
            <a:endParaRPr b="0" lang="en-US" sz="36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composition of the mixture is the same throughout the mixtur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ollect any two parts and they will have the same compositio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alt wat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i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pple Juic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4724280" y="228600"/>
            <a:ext cx="3733920" cy="6858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Palatino Linotype"/>
              </a:rPr>
              <a:t>Homogeneous vs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Heterogeneous 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composition of the mixture is NOT uniform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Parts may be dissimilar, often visuall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and and iron filing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il and wat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Spaghetti Sauc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Orange Juice w/ Pul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d0101"/>
                </a:solidFill>
                <a:latin typeface="Palatino Linotype"/>
              </a:rPr>
              <a:t>Matter Flow Chart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503520" y="1090440"/>
            <a:ext cx="2151000" cy="609840"/>
          </a:xfrm>
          <a:prstGeom prst="rect">
            <a:avLst/>
          </a:prstGeom>
          <a:solidFill>
            <a:srgbClr val="ffe67d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ad0101"/>
                </a:solidFill>
                <a:latin typeface="Palatino Linotype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>
            <a:hlinkClick r:id="rId1" action="ppaction://hlinksldjump"/>
          </p:cNvPr>
          <p:cNvSpPr/>
          <p:nvPr/>
        </p:nvSpPr>
        <p:spPr>
          <a:xfrm>
            <a:off x="3340080" y="2048040"/>
            <a:ext cx="2489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ad0101"/>
                </a:solidFill>
                <a:latin typeface="Times New Roman"/>
              </a:rPr>
              <a:t>Can it be physically separa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4584600" y="1700280"/>
            <a:ext cx="0" cy="37296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68120" y="4519440"/>
            <a:ext cx="2114640" cy="995400"/>
          </a:xfrm>
          <a:prstGeom prst="rect">
            <a:avLst/>
          </a:prstGeom>
          <a:solidFill>
            <a:srgbClr val="00206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om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2408400" y="4519440"/>
            <a:ext cx="2114280" cy="995400"/>
          </a:xfrm>
          <a:prstGeom prst="rect">
            <a:avLst/>
          </a:prstGeom>
          <a:solidFill>
            <a:srgbClr val="ad0101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eter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4646520" y="4519440"/>
            <a:ext cx="2114640" cy="995400"/>
          </a:xfrm>
          <a:prstGeom prst="rect">
            <a:avLst/>
          </a:prstGeom>
          <a:solidFill>
            <a:srgbClr val="0066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6886440" y="4519440"/>
            <a:ext cx="2114640" cy="995400"/>
          </a:xfrm>
          <a:prstGeom prst="rect">
            <a:avLst/>
          </a:prstGeom>
          <a:solidFill>
            <a:srgbClr val="cc33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11"/>
          <p:cNvGrpSpPr/>
          <p:nvPr/>
        </p:nvGrpSpPr>
        <p:grpSpPr>
          <a:xfrm>
            <a:off x="1069920" y="2793960"/>
            <a:ext cx="2550960" cy="870120"/>
            <a:chOff x="1069920" y="2793960"/>
            <a:chExt cx="2550960" cy="870120"/>
          </a:xfrm>
        </p:grpSpPr>
        <p:sp>
          <p:nvSpPr>
            <p:cNvPr id="573" name="Text Box 12"/>
            <p:cNvSpPr/>
            <p:nvPr/>
          </p:nvSpPr>
          <p:spPr>
            <a:xfrm>
              <a:off x="1069920" y="2793960"/>
              <a:ext cx="255096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MIX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3"/>
            <p:cNvSpPr/>
            <p:nvPr/>
          </p:nvSpPr>
          <p:spPr>
            <a:xfrm>
              <a:off x="234468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14"/>
          <p:cNvGrpSpPr/>
          <p:nvPr/>
        </p:nvGrpSpPr>
        <p:grpSpPr>
          <a:xfrm>
            <a:off x="5248440" y="2793960"/>
            <a:ext cx="3120480" cy="870120"/>
            <a:chOff x="5248440" y="2793960"/>
            <a:chExt cx="3120480" cy="870120"/>
          </a:xfrm>
        </p:grpSpPr>
        <p:sp>
          <p:nvSpPr>
            <p:cNvPr id="576" name="Text Box 15"/>
            <p:cNvSpPr/>
            <p:nvPr/>
          </p:nvSpPr>
          <p:spPr>
            <a:xfrm>
              <a:off x="5248440" y="2793960"/>
              <a:ext cx="312048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PURE SUB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6"/>
            <p:cNvSpPr/>
            <p:nvPr/>
          </p:nvSpPr>
          <p:spPr>
            <a:xfrm>
              <a:off x="682236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17"/>
          <p:cNvSpPr/>
          <p:nvPr/>
        </p:nvSpPr>
        <p:spPr>
          <a:xfrm>
            <a:off x="23432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2343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9"/>
          <p:cNvSpPr/>
          <p:nvPr/>
        </p:nvSpPr>
        <p:spPr>
          <a:xfrm>
            <a:off x="68216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5826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228276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638820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3"/>
          <p:cNvGrpSpPr/>
          <p:nvPr/>
        </p:nvGrpSpPr>
        <p:grpSpPr>
          <a:xfrm>
            <a:off x="4641840" y="3711600"/>
            <a:ext cx="4333680" cy="782640"/>
            <a:chOff x="4641840" y="3711600"/>
            <a:chExt cx="4333680" cy="782640"/>
          </a:xfrm>
        </p:grpSpPr>
        <p:sp>
          <p:nvSpPr>
            <p:cNvPr id="585" name="Line 24"/>
            <p:cNvSpPr/>
            <p:nvPr/>
          </p:nvSpPr>
          <p:spPr>
            <a:xfrm>
              <a:off x="5403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8265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Text Box 26"/>
            <p:cNvSpPr/>
            <p:nvPr/>
          </p:nvSpPr>
          <p:spPr>
            <a:xfrm>
              <a:off x="5591160" y="3748320"/>
              <a:ext cx="248760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Can it be chemically decompo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7"/>
            <p:cNvSpPr/>
            <p:nvPr/>
          </p:nvSpPr>
          <p:spPr>
            <a:xfrm>
              <a:off x="540396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8"/>
            <p:cNvSpPr/>
            <p:nvPr/>
          </p:nvSpPr>
          <p:spPr>
            <a:xfrm>
              <a:off x="801684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29"/>
            <p:cNvSpPr/>
            <p:nvPr/>
          </p:nvSpPr>
          <p:spPr>
            <a:xfrm>
              <a:off x="8353440" y="3711600"/>
              <a:ext cx="6220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0"/>
            <p:cNvSpPr/>
            <p:nvPr/>
          </p:nvSpPr>
          <p:spPr>
            <a:xfrm>
              <a:off x="4641840" y="3711600"/>
              <a:ext cx="871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31"/>
          <p:cNvGrpSpPr/>
          <p:nvPr/>
        </p:nvGrpSpPr>
        <p:grpSpPr>
          <a:xfrm>
            <a:off x="147600" y="3675240"/>
            <a:ext cx="4269960" cy="782640"/>
            <a:chOff x="147600" y="3675240"/>
            <a:chExt cx="4269960" cy="782640"/>
          </a:xfrm>
        </p:grpSpPr>
        <p:sp>
          <p:nvSpPr>
            <p:cNvPr id="593" name="Line 32"/>
            <p:cNvSpPr/>
            <p:nvPr/>
          </p:nvSpPr>
          <p:spPr>
            <a:xfrm>
              <a:off x="374472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33"/>
            <p:cNvSpPr/>
            <p:nvPr/>
          </p:nvSpPr>
          <p:spPr>
            <a:xfrm>
              <a:off x="88380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4"/>
            <p:cNvSpPr/>
            <p:nvPr/>
          </p:nvSpPr>
          <p:spPr>
            <a:xfrm>
              <a:off x="1256400" y="3711960"/>
              <a:ext cx="211536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Is the composition unifor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35"/>
            <p:cNvSpPr/>
            <p:nvPr/>
          </p:nvSpPr>
          <p:spPr>
            <a:xfrm>
              <a:off x="88380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36"/>
            <p:cNvSpPr/>
            <p:nvPr/>
          </p:nvSpPr>
          <p:spPr>
            <a:xfrm>
              <a:off x="337176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37"/>
            <p:cNvSpPr/>
            <p:nvPr/>
          </p:nvSpPr>
          <p:spPr>
            <a:xfrm>
              <a:off x="3806640" y="3675240"/>
              <a:ext cx="6109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38"/>
            <p:cNvSpPr/>
            <p:nvPr/>
          </p:nvSpPr>
          <p:spPr>
            <a:xfrm>
              <a:off x="147600" y="3675240"/>
              <a:ext cx="871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39"/>
          <p:cNvGrpSpPr/>
          <p:nvPr/>
        </p:nvGrpSpPr>
        <p:grpSpPr>
          <a:xfrm>
            <a:off x="998640" y="5543640"/>
            <a:ext cx="4933440" cy="592200"/>
            <a:chOff x="998640" y="5543640"/>
            <a:chExt cx="4933440" cy="592200"/>
          </a:xfrm>
        </p:grpSpPr>
        <p:grpSp>
          <p:nvGrpSpPr>
            <p:cNvPr id="601" name="Group 40"/>
            <p:cNvGrpSpPr/>
            <p:nvPr/>
          </p:nvGrpSpPr>
          <p:grpSpPr>
            <a:xfrm>
              <a:off x="3138480" y="5543640"/>
              <a:ext cx="651960" cy="390240"/>
              <a:chOff x="3138480" y="5543640"/>
              <a:chExt cx="651960" cy="390240"/>
            </a:xfrm>
          </p:grpSpPr>
          <p:sp>
            <p:nvSpPr>
              <p:cNvPr id="602" name="Line 41"/>
              <p:cNvSpPr/>
              <p:nvPr/>
            </p:nvSpPr>
            <p:spPr>
              <a:xfrm>
                <a:off x="3138480" y="5933880"/>
                <a:ext cx="651960" cy="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42"/>
              <p:cNvSpPr/>
              <p:nvPr/>
            </p:nvSpPr>
            <p:spPr>
              <a:xfrm flipV="1">
                <a:off x="3465000" y="5543640"/>
                <a:ext cx="0" cy="39024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Text Box 43"/>
            <p:cNvSpPr/>
            <p:nvPr/>
          </p:nvSpPr>
          <p:spPr>
            <a:xfrm>
              <a:off x="99864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Coll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44"/>
            <p:cNvSpPr/>
            <p:nvPr/>
          </p:nvSpPr>
          <p:spPr>
            <a:xfrm>
              <a:off x="381780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Susp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AutoShape 45">
            <a:hlinkClick r:id="rId2" action="ppaction://hlinksldjump"/>
          </p:cNvPr>
          <p:cNvSpPr/>
          <p:nvPr/>
        </p:nvSpPr>
        <p:spPr>
          <a:xfrm>
            <a:off x="5792760" y="3621240"/>
            <a:ext cx="2100240" cy="639720"/>
          </a:xfrm>
          <a:custGeom>
            <a:avLst/>
            <a:gdLst>
              <a:gd name="textAreaLeft" fmla="*/ 41400 w 2100240"/>
              <a:gd name="textAreaRight" fmla="*/ 2058840 w 2100240"/>
              <a:gd name="textAreaTop" fmla="*/ 41400 h 639720"/>
              <a:gd name="textAreaBottom" fmla="*/ 598320 h 639720"/>
            </a:gdLst>
            <a:ahLst/>
            <a:rect l="textAreaLeft" t="textAreaTop" r="textAreaRight" b="textAreaBottom"/>
            <a:pathLst>
              <a:path w="70886" h="21600">
                <a:moveTo>
                  <a:pt x="0" y="0"/>
                </a:moveTo>
                <a:lnTo>
                  <a:pt x="70886" y="0"/>
                </a:lnTo>
                <a:lnTo>
                  <a:pt x="70886" y="21600"/>
                </a:lnTo>
                <a:lnTo>
                  <a:pt x="0" y="21600"/>
                </a:lnTo>
                <a:close/>
              </a:path>
              <a:path fill="lightenLess" w="70886" h="21600">
                <a:moveTo>
                  <a:pt x="0" y="0"/>
                </a:moveTo>
                <a:lnTo>
                  <a:pt x="70886" y="0"/>
                </a:lnTo>
                <a:lnTo>
                  <a:pt x="69486" y="1400"/>
                </a:lnTo>
                <a:lnTo>
                  <a:pt x="1400" y="1400"/>
                </a:lnTo>
                <a:close/>
              </a:path>
              <a:path fill="darken" w="70886" h="21600">
                <a:moveTo>
                  <a:pt x="70886" y="0"/>
                </a:moveTo>
                <a:lnTo>
                  <a:pt x="70886" y="21600"/>
                </a:lnTo>
                <a:lnTo>
                  <a:pt x="69486" y="20200"/>
                </a:lnTo>
                <a:lnTo>
                  <a:pt x="69486" y="1400"/>
                </a:lnTo>
                <a:close/>
              </a:path>
              <a:path fill="darkenLess" w="70886" h="21600">
                <a:moveTo>
                  <a:pt x="70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86" y="20200"/>
                </a:lnTo>
                <a:close/>
              </a:path>
              <a:path fill="lighten" w="70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Palatino Linotype"/>
              </a:rPr>
              <a:t>Physical</a:t>
            </a:r>
            <a:r>
              <a:rPr b="0" lang="en-US" sz="4000" spc="-1" strike="noStrike">
                <a:solidFill>
                  <a:srgbClr val="fe3737"/>
                </a:solidFill>
                <a:latin typeface="Palatino Linotype"/>
              </a:rPr>
              <a:t> vs.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</a:t>
            </a:r>
            <a:br>
              <a:rPr sz="4000"/>
            </a:br>
            <a:r>
              <a:rPr b="0" lang="en-US" sz="4000" spc="-1" strike="noStrike">
                <a:solidFill>
                  <a:srgbClr val="21272e"/>
                </a:solidFill>
                <a:latin typeface="Palatino Linotype"/>
              </a:rPr>
              <a:t>Properties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4240" y="1401840"/>
            <a:ext cx="87598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are identified by their properties as well as by their composition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Palatino Linotype"/>
              </a:rPr>
              <a:t>Physical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an be observed without changing the identity of the substanc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describes the ability of a substance to undergo changes in identi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Palatino Linotype"/>
              </a:rPr>
              <a:t>Physical</a:t>
            </a:r>
            <a:r>
              <a:rPr b="0" lang="en-US" sz="4000" spc="-1" strike="noStrike">
                <a:solidFill>
                  <a:srgbClr val="fe3737"/>
                </a:solidFill>
                <a:latin typeface="Palatino Linotype"/>
              </a:rPr>
              <a:t> vs.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</a:t>
            </a:r>
            <a:r>
              <a:rPr b="0" lang="en-US" sz="4000" spc="-1" strike="noStrike">
                <a:solidFill>
                  <a:srgbClr val="ff9900"/>
                </a:solidFill>
                <a:latin typeface="Palatino Linotyp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1272e"/>
                </a:solidFill>
                <a:latin typeface="Palatino Linotype"/>
              </a:rPr>
              <a:t>Changes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Palatino Linotype"/>
              </a:rPr>
              <a:t>Physical Chang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hanges the form of a substance without changing its identi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roperties remain the sam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45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Chang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hanges the identity of a substanc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668520" indent="-257040">
              <a:lnSpc>
                <a:spcPct val="100000"/>
              </a:lnSpc>
              <a:spcBef>
                <a:spcPts val="15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products have different propertie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Palatino Linotype"/>
              </a:rPr>
              <a:t>Chemical Changes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igns of a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Palatino Linotype"/>
              </a:rPr>
              <a:t>Chemical Chang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hange in color or odo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mation of a g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formation of a precipitate (solid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hange in light or he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Palatino Linotype"/>
              </a:rPr>
              <a:t>Extensive</a:t>
            </a:r>
            <a:r>
              <a:rPr b="0" lang="en-US" sz="5400" spc="-1" strike="noStrike">
                <a:solidFill>
                  <a:srgbClr val="fe3737"/>
                </a:solidFill>
                <a:latin typeface="Palatino Linotype"/>
              </a:rPr>
              <a:t> vs. </a:t>
            </a:r>
            <a:r>
              <a:rPr b="0" lang="en-US" sz="5400" spc="-1" strike="noStrike" u="sng">
                <a:solidFill>
                  <a:srgbClr val="820101"/>
                </a:solidFill>
                <a:uFillTx/>
                <a:latin typeface="Palatino Linotype"/>
              </a:rPr>
              <a:t>Intensive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Palatino Linotype"/>
              </a:rPr>
              <a:t>Extensive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depends on the amount of matter presen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82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20101"/>
                </a:solidFill>
                <a:uFillTx/>
                <a:latin typeface="Palatino Linotype"/>
              </a:rPr>
              <a:t>Intensive Property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depends on the identity of substance, not the amoun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Physical and Chemical Changes Lab</a:t>
            </a:r>
            <a:endParaRPr b="0" lang="en-US" sz="5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Each person works alon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You may discuss together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You will each get a different “practice write up assignment”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he focus is format, not result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d0101"/>
                </a:solidFill>
                <a:latin typeface="Palatino Linotype"/>
              </a:rPr>
              <a:t>Classification of Matter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Matter – anything that has mass and takes up space. Anything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Chemistry – the study of matter and the changes it undergoes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All matter can exist in three (3) states: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	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Solid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Liquid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Gas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3600" spc="-1" strike="noStrike" u="sng">
                <a:solidFill>
                  <a:srgbClr val="d26900"/>
                </a:solidFill>
                <a:uFillTx/>
                <a:latin typeface="Palatino Linotype"/>
                <a:hlinkClick r:id="rId1"/>
              </a:rPr>
              <a:t>Plasma</a:t>
            </a:r>
            <a:r>
              <a:rPr b="0" lang="en-US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6" name="Picture 5" descr="states"/>
          <p:cNvPicPr/>
          <p:nvPr/>
        </p:nvPicPr>
        <p:blipFill>
          <a:blip r:embed="rId2"/>
          <a:stretch/>
        </p:blipFill>
        <p:spPr>
          <a:xfrm>
            <a:off x="3581280" y="4267080"/>
            <a:ext cx="5292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alatino Linotype"/>
              </a:rPr>
              <a:t>Forces and Phases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with very little intermolecular attraction exist as gases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with strong intermolecular attraction exist as liquids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ubstances with </a:t>
            </a:r>
            <a:r>
              <a:rPr b="0" lang="en-US" sz="3200" spc="-1" strike="noStrike" u="sng">
                <a:solidFill>
                  <a:srgbClr val="21272e"/>
                </a:solidFill>
                <a:uFillTx/>
                <a:latin typeface="Palatino Linotype"/>
              </a:rPr>
              <a:t>very strong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ntermolecular (or ionic) attraction exist as solid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"/>
          <p:cNvSpPr/>
          <p:nvPr/>
        </p:nvSpPr>
        <p:spPr>
          <a:xfrm>
            <a:off x="0" y="481644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  <a:ea typeface="Times New Roman"/>
              </a:rPr>
              <a:t>Solid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  <a:ea typeface="Times New Roman"/>
              </a:rPr>
              <a:t> – definite volume and shape; particles packed in fixed positions; particles are not free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0" y="243828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  <a:ea typeface="Times New Roman"/>
              </a:rPr>
              <a:t>Liquid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  <a:ea typeface="Times New Roman"/>
              </a:rPr>
              <a:t> – definite volume but indefinite shape; particles close together but not in fixed positions; particles are free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0" y="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  <a:ea typeface="Times New Roman"/>
              </a:rPr>
              <a:t>Gas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  <a:ea typeface="Times New Roman"/>
              </a:rPr>
              <a:t> – neither definite volume nor definite shape; particles are at great distances from one another; particles are free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9" descr=""/>
          <p:cNvPicPr/>
          <p:nvPr/>
        </p:nvPicPr>
        <p:blipFill>
          <a:blip r:embed="rId1"/>
          <a:stretch/>
        </p:blipFill>
        <p:spPr>
          <a:xfrm>
            <a:off x="5526000" y="0"/>
            <a:ext cx="36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Palatino Linotype"/>
              </a:rPr>
              <a:t>Physical Properties of Gases </a:t>
            </a:r>
            <a:endParaRPr b="0" lang="en-US" sz="40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14479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Highly compre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Low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Fill container complet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Assume shape of cont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Rapid 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72e"/>
                </a:solidFill>
                <a:latin typeface="Perpetua"/>
              </a:rPr>
              <a:t>High expansion on he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6464160" y="2209680"/>
            <a:ext cx="2057400" cy="3157560"/>
          </a:xfrm>
          <a:prstGeom prst="rect">
            <a:avLst/>
          </a:prstGeom>
          <a:ln cap="sq" w="38160">
            <a:solidFill>
              <a:srgbClr val="dede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Palatino Linotype"/>
              </a:rPr>
              <a:t>Physical Properties of Liquids</a:t>
            </a:r>
            <a:endParaRPr b="0" lang="en-US" sz="4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Slightly compre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High den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Definite volume, does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  <a:ea typeface="Arial"/>
              </a:rPr>
              <a:t>expand to fill contai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Assumes shape of contai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Slow 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Low expansion on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140280"/>
          </a:xfrm>
          <a:prstGeom prst="rect">
            <a:avLst/>
          </a:prstGeom>
          <a:ln cap="sq" w="38160">
            <a:solidFill>
              <a:srgbClr val="dede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Palatino Linotype"/>
              </a:rPr>
              <a:t>Physical Properties of Solids</a:t>
            </a:r>
            <a:endParaRPr b="0" lang="en-US" sz="44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Slightly compre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High den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Rigidly retains its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Retains its own sh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Extremely slow diffusion; occurs only at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21272e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2e"/>
                </a:solidFill>
                <a:latin typeface="Perpetua"/>
              </a:rPr>
              <a:t>Low expansion on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2306520" cy="3533760"/>
          </a:xfrm>
          <a:prstGeom prst="rect">
            <a:avLst/>
          </a:prstGeom>
          <a:ln cap="sq" w="38160">
            <a:solidFill>
              <a:srgbClr val="dede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d0101"/>
                </a:solidFill>
                <a:latin typeface="Palatino Linotype"/>
              </a:rPr>
              <a:t>Matter Flow Chart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3503520" y="1090440"/>
            <a:ext cx="2151000" cy="609840"/>
          </a:xfrm>
          <a:prstGeom prst="rect">
            <a:avLst/>
          </a:prstGeom>
          <a:solidFill>
            <a:srgbClr val="ffe67d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ad0101"/>
                </a:solidFill>
                <a:latin typeface="Palatino Linotype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>
            <a:hlinkClick r:id="rId1" action="ppaction://hlinksldjump"/>
          </p:cNvPr>
          <p:cNvSpPr/>
          <p:nvPr/>
        </p:nvSpPr>
        <p:spPr>
          <a:xfrm>
            <a:off x="3340080" y="2048040"/>
            <a:ext cx="2489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ad0101"/>
                </a:solidFill>
                <a:latin typeface="Times New Roman"/>
              </a:rPr>
              <a:t>Can it be physically separa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6"/>
          <p:cNvSpPr/>
          <p:nvPr/>
        </p:nvSpPr>
        <p:spPr>
          <a:xfrm>
            <a:off x="4584600" y="1700280"/>
            <a:ext cx="0" cy="37296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68120" y="4519440"/>
            <a:ext cx="2114640" cy="995400"/>
          </a:xfrm>
          <a:prstGeom prst="rect">
            <a:avLst/>
          </a:prstGeom>
          <a:solidFill>
            <a:srgbClr val="00206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om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2408400" y="4519440"/>
            <a:ext cx="2114280" cy="995400"/>
          </a:xfrm>
          <a:prstGeom prst="rect">
            <a:avLst/>
          </a:prstGeom>
          <a:solidFill>
            <a:srgbClr val="ad0101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Heterogeneous M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4646520" y="4519440"/>
            <a:ext cx="2114640" cy="995400"/>
          </a:xfrm>
          <a:prstGeom prst="rect">
            <a:avLst/>
          </a:prstGeom>
          <a:solidFill>
            <a:srgbClr val="0066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6886440" y="4519440"/>
            <a:ext cx="2114640" cy="995400"/>
          </a:xfrm>
          <a:prstGeom prst="rect">
            <a:avLst/>
          </a:prstGeom>
          <a:solidFill>
            <a:srgbClr val="cc3300"/>
          </a:solidFill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1069920" y="2793960"/>
            <a:ext cx="2550960" cy="870120"/>
            <a:chOff x="1069920" y="2793960"/>
            <a:chExt cx="2550960" cy="870120"/>
          </a:xfrm>
        </p:grpSpPr>
        <p:sp>
          <p:nvSpPr>
            <p:cNvPr id="511" name="Text Box 12"/>
            <p:cNvSpPr/>
            <p:nvPr/>
          </p:nvSpPr>
          <p:spPr>
            <a:xfrm>
              <a:off x="1069920" y="2793960"/>
              <a:ext cx="255096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MIX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3"/>
            <p:cNvSpPr/>
            <p:nvPr/>
          </p:nvSpPr>
          <p:spPr>
            <a:xfrm>
              <a:off x="234468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5248440" y="2793960"/>
            <a:ext cx="3120480" cy="870120"/>
            <a:chOff x="5248440" y="2793960"/>
            <a:chExt cx="3120480" cy="870120"/>
          </a:xfrm>
        </p:grpSpPr>
        <p:sp>
          <p:nvSpPr>
            <p:cNvPr id="514" name="Text Box 15"/>
            <p:cNvSpPr/>
            <p:nvPr/>
          </p:nvSpPr>
          <p:spPr>
            <a:xfrm>
              <a:off x="5248440" y="2793960"/>
              <a:ext cx="3120480" cy="49680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ad0101"/>
                  </a:solidFill>
                  <a:latin typeface="Palatino Linotype"/>
                </a:rPr>
                <a:t>PURE SUB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6"/>
            <p:cNvSpPr/>
            <p:nvPr/>
          </p:nvSpPr>
          <p:spPr>
            <a:xfrm>
              <a:off x="6822360" y="3290760"/>
              <a:ext cx="0" cy="37332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Line 17"/>
          <p:cNvSpPr/>
          <p:nvPr/>
        </p:nvSpPr>
        <p:spPr>
          <a:xfrm>
            <a:off x="23432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343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6821640" y="2297160"/>
            <a:ext cx="0" cy="496800"/>
          </a:xfrm>
          <a:prstGeom prst="line">
            <a:avLst/>
          </a:prstGeom>
          <a:ln w="28440">
            <a:solidFill>
              <a:srgbClr val="ad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5826240" y="2297160"/>
            <a:ext cx="995400" cy="0"/>
          </a:xfrm>
          <a:prstGeom prst="line">
            <a:avLst/>
          </a:prstGeom>
          <a:ln w="284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228276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6388200" y="1827360"/>
            <a:ext cx="871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0101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4641840" y="3711600"/>
            <a:ext cx="4333680" cy="782640"/>
            <a:chOff x="4641840" y="3711600"/>
            <a:chExt cx="4333680" cy="782640"/>
          </a:xfrm>
        </p:grpSpPr>
        <p:sp>
          <p:nvSpPr>
            <p:cNvPr id="523" name="Line 24"/>
            <p:cNvSpPr/>
            <p:nvPr/>
          </p:nvSpPr>
          <p:spPr>
            <a:xfrm>
              <a:off x="5403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5"/>
            <p:cNvSpPr/>
            <p:nvPr/>
          </p:nvSpPr>
          <p:spPr>
            <a:xfrm>
              <a:off x="8265960" y="399744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26"/>
            <p:cNvSpPr/>
            <p:nvPr/>
          </p:nvSpPr>
          <p:spPr>
            <a:xfrm>
              <a:off x="5591160" y="3748320"/>
              <a:ext cx="248760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Can it be chemically decompo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27"/>
            <p:cNvSpPr/>
            <p:nvPr/>
          </p:nvSpPr>
          <p:spPr>
            <a:xfrm>
              <a:off x="540396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28"/>
            <p:cNvSpPr/>
            <p:nvPr/>
          </p:nvSpPr>
          <p:spPr>
            <a:xfrm>
              <a:off x="8016840" y="3997440"/>
              <a:ext cx="24912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9"/>
            <p:cNvSpPr/>
            <p:nvPr/>
          </p:nvSpPr>
          <p:spPr>
            <a:xfrm>
              <a:off x="8353440" y="3711600"/>
              <a:ext cx="6220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30"/>
            <p:cNvSpPr/>
            <p:nvPr/>
          </p:nvSpPr>
          <p:spPr>
            <a:xfrm>
              <a:off x="4641840" y="3711600"/>
              <a:ext cx="871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31"/>
          <p:cNvGrpSpPr/>
          <p:nvPr/>
        </p:nvGrpSpPr>
        <p:grpSpPr>
          <a:xfrm>
            <a:off x="147600" y="3675240"/>
            <a:ext cx="4269960" cy="782640"/>
            <a:chOff x="147600" y="3675240"/>
            <a:chExt cx="4269960" cy="782640"/>
          </a:xfrm>
        </p:grpSpPr>
        <p:sp>
          <p:nvSpPr>
            <p:cNvPr id="531" name="Line 32"/>
            <p:cNvSpPr/>
            <p:nvPr/>
          </p:nvSpPr>
          <p:spPr>
            <a:xfrm>
              <a:off x="374472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33"/>
            <p:cNvSpPr/>
            <p:nvPr/>
          </p:nvSpPr>
          <p:spPr>
            <a:xfrm>
              <a:off x="883800" y="3961080"/>
              <a:ext cx="0" cy="49680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1256400" y="3711960"/>
              <a:ext cx="211536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d0101"/>
                  </a:solidFill>
                  <a:latin typeface="Times New Roman"/>
                </a:rPr>
                <a:t>Is the composition unifor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5"/>
            <p:cNvSpPr/>
            <p:nvPr/>
          </p:nvSpPr>
          <p:spPr>
            <a:xfrm>
              <a:off x="88380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6"/>
            <p:cNvSpPr/>
            <p:nvPr/>
          </p:nvSpPr>
          <p:spPr>
            <a:xfrm>
              <a:off x="3371760" y="3961080"/>
              <a:ext cx="372600" cy="0"/>
            </a:xfrm>
            <a:prstGeom prst="line">
              <a:avLst/>
            </a:prstGeom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37"/>
            <p:cNvSpPr/>
            <p:nvPr/>
          </p:nvSpPr>
          <p:spPr>
            <a:xfrm>
              <a:off x="3806640" y="3675240"/>
              <a:ext cx="6109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38"/>
            <p:cNvSpPr/>
            <p:nvPr/>
          </p:nvSpPr>
          <p:spPr>
            <a:xfrm>
              <a:off x="147600" y="3675240"/>
              <a:ext cx="871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0101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39"/>
          <p:cNvGrpSpPr/>
          <p:nvPr/>
        </p:nvGrpSpPr>
        <p:grpSpPr>
          <a:xfrm>
            <a:off x="998640" y="5543640"/>
            <a:ext cx="4933440" cy="592200"/>
            <a:chOff x="998640" y="5543640"/>
            <a:chExt cx="4933440" cy="592200"/>
          </a:xfrm>
        </p:grpSpPr>
        <p:grpSp>
          <p:nvGrpSpPr>
            <p:cNvPr id="539" name="Group 40"/>
            <p:cNvGrpSpPr/>
            <p:nvPr/>
          </p:nvGrpSpPr>
          <p:grpSpPr>
            <a:xfrm>
              <a:off x="3138480" y="5543640"/>
              <a:ext cx="651960" cy="390240"/>
              <a:chOff x="3138480" y="5543640"/>
              <a:chExt cx="651960" cy="390240"/>
            </a:xfrm>
          </p:grpSpPr>
          <p:sp>
            <p:nvSpPr>
              <p:cNvPr id="540" name="Line 41"/>
              <p:cNvSpPr/>
              <p:nvPr/>
            </p:nvSpPr>
            <p:spPr>
              <a:xfrm>
                <a:off x="3138480" y="5933880"/>
                <a:ext cx="651960" cy="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2"/>
              <p:cNvSpPr/>
              <p:nvPr/>
            </p:nvSpPr>
            <p:spPr>
              <a:xfrm flipV="1">
                <a:off x="3465000" y="5543640"/>
                <a:ext cx="0" cy="390240"/>
              </a:xfrm>
              <a:prstGeom prst="line">
                <a:avLst/>
              </a:prstGeom>
              <a:ln cap="sq" w="28440">
                <a:solidFill>
                  <a:srgbClr val="ad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Text Box 43"/>
            <p:cNvSpPr/>
            <p:nvPr/>
          </p:nvSpPr>
          <p:spPr>
            <a:xfrm>
              <a:off x="99864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Coll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44"/>
            <p:cNvSpPr/>
            <p:nvPr/>
          </p:nvSpPr>
          <p:spPr>
            <a:xfrm>
              <a:off x="3817800" y="5700960"/>
              <a:ext cx="2114280" cy="434880"/>
            </a:xfrm>
            <a:prstGeom prst="rect">
              <a:avLst/>
            </a:prstGeom>
            <a:solidFill>
              <a:srgbClr val="ffe67d"/>
            </a:solidFill>
            <a:ln w="284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d0101"/>
                  </a:solidFill>
                  <a:latin typeface="Palatino Linotype"/>
                </a:rPr>
                <a:t>Susp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AutoShape 45">
            <a:hlinkClick r:id="rId2" action="ppaction://hlinksldjump"/>
          </p:cNvPr>
          <p:cNvSpPr/>
          <p:nvPr/>
        </p:nvSpPr>
        <p:spPr>
          <a:xfrm>
            <a:off x="5792760" y="3621240"/>
            <a:ext cx="2100240" cy="639720"/>
          </a:xfrm>
          <a:custGeom>
            <a:avLst/>
            <a:gdLst>
              <a:gd name="textAreaLeft" fmla="*/ 41400 w 2100240"/>
              <a:gd name="textAreaRight" fmla="*/ 2058840 w 2100240"/>
              <a:gd name="textAreaTop" fmla="*/ 41400 h 639720"/>
              <a:gd name="textAreaBottom" fmla="*/ 598320 h 639720"/>
            </a:gdLst>
            <a:ahLst/>
            <a:rect l="textAreaLeft" t="textAreaTop" r="textAreaRight" b="textAreaBottom"/>
            <a:pathLst>
              <a:path w="70886" h="21600">
                <a:moveTo>
                  <a:pt x="0" y="0"/>
                </a:moveTo>
                <a:lnTo>
                  <a:pt x="70886" y="0"/>
                </a:lnTo>
                <a:lnTo>
                  <a:pt x="70886" y="21600"/>
                </a:lnTo>
                <a:lnTo>
                  <a:pt x="0" y="21600"/>
                </a:lnTo>
                <a:close/>
              </a:path>
              <a:path fill="lightenLess" w="70886" h="21600">
                <a:moveTo>
                  <a:pt x="0" y="0"/>
                </a:moveTo>
                <a:lnTo>
                  <a:pt x="70886" y="0"/>
                </a:lnTo>
                <a:lnTo>
                  <a:pt x="69486" y="1400"/>
                </a:lnTo>
                <a:lnTo>
                  <a:pt x="1400" y="1400"/>
                </a:lnTo>
                <a:close/>
              </a:path>
              <a:path fill="darken" w="70886" h="21600">
                <a:moveTo>
                  <a:pt x="70886" y="0"/>
                </a:moveTo>
                <a:lnTo>
                  <a:pt x="70886" y="21600"/>
                </a:lnTo>
                <a:lnTo>
                  <a:pt x="69486" y="20200"/>
                </a:lnTo>
                <a:lnTo>
                  <a:pt x="69486" y="1400"/>
                </a:lnTo>
                <a:close/>
              </a:path>
              <a:path fill="darkenLess" w="70886" h="21600">
                <a:moveTo>
                  <a:pt x="70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86" y="20200"/>
                </a:lnTo>
                <a:close/>
              </a:path>
              <a:path fill="lighten" w="70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Divisions of Matter</a:t>
            </a:r>
            <a:endParaRPr b="0" lang="en-US" sz="4800" spc="-1" strike="noStrike">
              <a:solidFill>
                <a:srgbClr val="303030"/>
              </a:solidFill>
              <a:latin typeface="Palatino Linotyp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Substance: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definite or constant composition and distinct propertie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ompounds or Element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Water, silver, ethanol, salt, carbon dioxide, Ne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2e"/>
                </a:solidFill>
                <a:uFillTx/>
                <a:latin typeface="Palatino Linotype"/>
              </a:rPr>
              <a:t>Mixture: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Combination of 2 or more substances in that retain their distinct identities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Homogeneous or Heterogeneou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Air, soft drinks, milk, cemen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dcterms:modified xsi:type="dcterms:W3CDTF">2010-08-22T21:21:16Z</dcterms:modified>
  <cp:revision>55</cp:revision>
  <dc:subject/>
  <dc:title>Introduction to Chemistry</dc:title>
</cp:coreProperties>
</file>